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jpeg" ContentType="image/jpeg"/>
  <Override PartName="/ppt/media/image14.wmf" ContentType="image/x-wmf"/>
  <Override PartName="/ppt/media/image6.png" ContentType="image/png"/>
  <Override PartName="/ppt/media/image31.png" ContentType="image/png"/>
  <Override PartName="/ppt/media/image23.png" ContentType="image/png"/>
  <Override PartName="/ppt/media/image30.gif" ContentType="image/gif"/>
  <Override PartName="/ppt/media/image8.png" ContentType="image/png"/>
  <Override PartName="/ppt/media/image1.jpeg" ContentType="image/jpeg"/>
  <Override PartName="/ppt/media/image7.png" ContentType="image/png"/>
  <Override PartName="/ppt/media/image11.png" ContentType="image/png"/>
  <Override PartName="/ppt/media/image12.jpeg" ContentType="image/jpeg"/>
  <Override PartName="/ppt/media/image10.gif" ContentType="image/gif"/>
  <Override PartName="/ppt/media/image22.jpeg" ContentType="image/jpeg"/>
  <Override PartName="/ppt/media/image9.png" ContentType="image/png"/>
  <Override PartName="/ppt/media/image15.jpeg" ContentType="image/jpeg"/>
  <Override PartName="/ppt/media/image2.jpeg" ContentType="image/jpeg"/>
  <Override PartName="/ppt/media/image5.png" ContentType="image/png"/>
  <Override PartName="/ppt/media/image3.wmf" ContentType="image/x-wmf"/>
  <Override PartName="/ppt/media/image29.jpeg" ContentType="image/jpeg"/>
  <Override PartName="/ppt/media/image4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E68-20EF-4D87-92F2-7AE0CC33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DAC-C479-4D00-8354-619DC3B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97D-AF53-4F0A-A36E-28A71DE9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FE9-FD8A-48D0-B783-E0A75C93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4E11-74EC-475F-B8C6-5B0E33E0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42D9-E993-4BD1-A4BC-E2058D3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7EE-4F52-439F-91B9-83D6167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ECA9-ACB1-4806-B7C4-0EBDFA5A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F63C-8721-4A99-A1E4-53BE2C3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0ACF-7326-4110-9D14-CB6E97D1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A56F-7F57-4132-BBFD-82602C12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2BC-3496-4114-9DD1-7210F495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77B-4756-47C4-8264-EF95B50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AA1-87CA-4EF1-8491-C4DD289F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8BE7-8C3A-4808-982B-28A4BD50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D57C-AADD-4583-9FFC-1DA2F4BA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88A-CA45-468B-A28F-CBA7A071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C4C-A6FF-4729-9C1A-7A372B41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AA0-F402-4356-A70B-A2279BD6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3CA-6C20-421A-A0A4-139E0D00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5E1-E50F-4068-916B-6CF1E785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979-46D2-4D0A-8923-32E5278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C82-F998-4413-A089-50B2573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537-ACD1-4DBC-A12A-5A815E7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B60D-CB7C-4B60-B2F9-A3D9D5A04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7A57-4615-4A80-9BAB-693947C89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0;&#1086;&#1087;&#1080;&#1103;%20&#1058;&#1074;&#1086;&#1088;&#1095;&#1077;&#1089;&#1082;&#1080;&#1081;%20&#1087;&#1088;&#1086;&#1077;&#1082;&#1090;%202.ppt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hyperlink" Target="file:///&#1050;&#1086;&#1087;&#1080;&#1103;%20&#1058;&#1074;&#1086;&#1088;&#1095;&#1077;&#1089;&#1082;&#1080;&#1081;%20&#1087;&#1088;&#1086;&#1077;&#1082;&#1090;%202.ppt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Творческий проект</a:t>
            </a:r>
            <a:br>
              <a:rPr sz="54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анимательный календарь школьника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2006-2007 уч.г.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СТОР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88000" y="2923920"/>
            <a:ext cx="23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оконь Миха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ащийся МОУ «СОШ№40», 11«А»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ушкарева Г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5553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Гипотез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666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мы рассмотрим возможные варианты решения пробле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берем журналы, книги, сборники, содержащие интеллектуальные зад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учим их содержание, систематизируем собранный и изученный материа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дим варианты страниц календаря, соберем соответствующий иллюстративный материал, проведем опрос, анкетирование и интервьюирование респондентов, проанализируем результаты исследования, то, мы, вполне возможно, создадим оригинальное пособие по истории, способствующие развитию образного мышления, стремлению нестандартно подходить к решению творческих задач, развивающее интерес к изучению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м, возможно, удастся превратить серьезную интеллектуальную деятельность в увлекательное заня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сможем дать еще одну возможность раскрыться талантливым, эрудированным ребятам, тем, для кого знания, наука, творчество имеют первостепенное зна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Характеристика работы: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329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 «Занимательный календарь  для школьников по истории» является не только творческим(новое, оригинальное, не имеющее аналогов пособие) и исследовательским  (исследуется отношение к пособию участников учебного процесса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и практико – ориентированным, так как в результате его реализации создано такое пособие, материал которого можно использовать для работы на уроках, во внеурочное время, для проведения содержательного досуга, а так же использовать как подарок победителям различных конкурсов, соревнований, викторин и игр по истории для стимулирования познавательной деятельност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2390760"/>
            <a:ext cx="37083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Этапы выполнения проект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этап. Начальный этап (сентябрь 200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Определение темы проекта, формулирование его основной мысли, уточнение цели, исходного по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Начало подбора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215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этап. Планирование деятельности по выполнению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октябрь 2005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улирование и уточнение зад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должение сбора и уточн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Систематизация собранной информации. Изучение 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атизировав и изучив собранную информацию, мы пришли к выводу, что полученный материал можно использовать для создания занимательно –познавательного пособия по исто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 этап. План действий по выполнению проекта (ноябрь 2005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з и анализ и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ор оптимального варианта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синтеза и анализа идей был выбран вариант календаря. Этот вариант позволяет использовать достаточный объем познавательных заданий, компоновать их по собственному усмотрению, использовать  иллюстрации и, кроме того, отметить наиболее значимые даты в истории нашего Отечества. Использовать разнообразные задания – кроссворды, чайнворды и т. д.    То есть дает возможность заняться творчеств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бор рабочей груп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бочую группу вош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оконь Михаил - компьютерный дизайн, анализ синтез идей, анализ 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скова Елена – работа с историческим материалом: сбор информации, систематизация материала, анализ синтез идей, анализ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енко Анна - работа с историческим материалом: сбор информации, систематизация материала, анализ синтез идей, анализ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Составление и уточнение плана деятельности по реализации прое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349360"/>
            <a:ext cx="365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получения отве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2421000"/>
            <a:ext cx="289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План действий по реализации проекта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386000" y="-4001040"/>
            <a:ext cx="367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лан действий по реализации проек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352440"/>
          <a:ext cx="8785440" cy="63086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ганизационно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держательная рабо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ханизм реал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ланируемый результат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общественно значимой проблемы изучения прав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бор информации по да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кетир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циологический опрос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учение различных источников по обозначе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зультат работы над исследовательской темой «Право избирать и быть избранными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формированное представление о работе над проекто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статочно объективная информация по да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работка собственного варианта решения проблем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Определение цели, задач проек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Определение содержания проекта. Составление плана рабо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Анализ и систематизация полученного материала и распределение его по соответствующим раздел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статочная информация по да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ализация действий рабочей групп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ведение плановых мероприяти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учение и анализ собранных материал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ставление календар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Работа с необходимыми информационными источникам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ка материалов к защит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атизация материалов по следующим разделам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Демонстрационный разде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Документальный разде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Письменные сообщ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Список источник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Схем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Фотографи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Видеоматери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_Документы, наиболее полно и доказательно представляющие проект.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щита проек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Сценарий защи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Оформление постер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стная защи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ализ результатов рабо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ализ и сравнение поставленной цели и достигнутых результатов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Разбор проделанной рабо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Оценивание деятельности участник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Выявление слабых сторон проек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алитические материал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282320" y="10584360"/>
            <a:ext cx="65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.Выбор и обоснование критериев успеха (анкеты для участников проекта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4этап. Выполнение проекта (декабрь 2005г)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над проек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делы истории в рамках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сь собранный материал  был систематизирован и разделен по раздел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истории Отечества.                     15 вопросов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истории Древнего мира.               5 вопросов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истории средних веков.                5 вопросов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новой и новейшей истории.          5 вопросов в меся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расчета 30 дней в месяце, они распределялись соответствен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-5 – 5 – 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и вопросов по истории Отечества используются вопросы по истории Нориль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жно, что задания различаются по уровню сложности. Обязательно наличие «утешительных», то есть решаемых всеми заданий и тех, с которыми в итоге справляются немногие. Сложность задачи по истории тем больше, чем объемнее материал, с которым надо разобраться, и чем длиннее цепочка логических заключений, которые приходится выстраивать для получения от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/>
          </p:cNvPr>
          <p:cNvSpPr/>
          <p:nvPr/>
        </p:nvSpPr>
        <p:spPr>
          <a:xfrm>
            <a:off x="8317080" y="6453360"/>
            <a:ext cx="760320" cy="215640"/>
          </a:xfrm>
          <a:custGeom>
            <a:avLst/>
            <a:gdLst>
              <a:gd name="textAreaLeft" fmla="*/ 0 w 760320"/>
              <a:gd name="textAreaRight" fmla="*/ 760680 w 7603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Что? Где? Когда?» в 5-х и 10-х класса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4005360"/>
            <a:ext cx="27018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27018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508720" y="1916280"/>
            <a:ext cx="2701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6360" y="1916280"/>
            <a:ext cx="270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Выполнение намеченного исследова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76720" y="944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3384720" cy="2543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 П Р О С</a:t>
            </a:r>
            <a:br>
              <a:rPr sz="4000"/>
            </a:b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Вопросы опроса:   Всего – 122 учащихся.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514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нравился ли вам подобный вид работы?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тите ли вы, чтобы это пособие использовалось на уроках истор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тите ли иметь подобное пособие у себ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ма?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таете ли вы, что это пособие сделает изучение истории более увлекательным?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таете ли вы, что это пособие поможет вам больше узнать об истории Отечества, истории Норильска, истории в целом?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тели ли бы вы участвовать в создании подобных работ?  (10 ,9 клас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17960" y="907560"/>
            <a:ext cx="3927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        Нет     Воз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%(98) 10%(12) 10%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%(74) 10%(12) 30%(3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%(86)  15%(18) 15%(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%(86)  10%(12) 20%(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%(86)  10%(12) 20%(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% - 6 девятикласс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% - 6 десятикласс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основание  темы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460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год является юбилейным . Нашей школе исполняется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лет клубу интеллектуальных игр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«Вед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ая в интеллектуальные игры на протяжении нескольких лет, мы на себе испытали их плодотворное влияние: энергию азарта рождает игра, любопытство усиливается с каждым новым интересным вопросом, удивление и восхищение вызывают красивые, нестандартные решения. Это -интеллектуальная деятельность, к ней должен привлечь ребят наш проект, а также стать подарком к юбилею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410544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1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0" y="712800"/>
          <a:ext cx="182520" cy="4518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800" y="5230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3280" y="250920"/>
            <a:ext cx="4500720" cy="32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4248360" cy="2822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78200" y="3716280"/>
            <a:ext cx="4465800" cy="27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 Н Т Е Р В Ь Ю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55640" y="980640"/>
            <a:ext cx="4489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анда «Знато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ллектуального клуба «Веди». 9 «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м очень понравилась ваша работа, календарь получился красочным, увлекательным, очень много новых, интересных вопросов по разным периодам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считаем, что ответы в конце календаря печатать не надо, а каждый месяц надо проводить игры и викторины с этими вопрос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хотели бы тоже заняться подобной работой и создать свой календарь, но уже по всем школьным предме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757520"/>
            <a:ext cx="417672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Усенко Ольга Федоровна – психолог МОУ «СОШ №40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0911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 интересом познакомилась с вашим календарем, получила огромное удовольствие от  того, что на некоторые вопросы смогла ответить, над какими-то пришлось основательно подум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читаю, что подобная работа увеличит познавательную потребность ребят, стремление к получению новых знаний, новой информ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ебята получат удовольствие от умственного напря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лендарь является хорошим тренажером для развития умения выделить в тексте важное для решения данной конкретной задачи и отбросить второстепенное, незначим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ботая с календарем, ребята проявят стремление к самореа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формируются навыки самоконтро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сть возможность соотнести результаты своей работы с результатами работы других, что будет способствовать формированию адекватной самооцен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719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плова Виктория Викторовна – библиотекарь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08000" y="1196640"/>
            <a:ext cx="5435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первые услышала о вашем календаре от пятиклассников, которые пришли в библиотеку за энциклопедиями по исто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тельно, что календарь не просто предлагает ответить на вопросы по истории, он зовет умножить знания и чувства, вспомнить и впитать гордость умом, мужеством, достоинством предков наш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а с календарем помогает проявить высокую познавательную активность и понять, что новая «красивая» задача – награда за правильное решение предыдущей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ные по сложности задания, помогают приобщиться к истории и пятиклассникам и учащимся старших классов и родителям реб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величивается мотивация учеников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живает их интерес к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, по моему мнению ответы в конце календаря должны быть обязательно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635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5 этап. Оценка результатов (январь 2006г.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нашей работы над проектом было создано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ригиналь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е имеющее аналог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пособие по ис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но не претендует на полный охват исторического процесса, этой цели служат другие издания, например учебники и специальная научная литература. Это скорее историческая мозаика, которая должна развлечь, но как любая игра – она дело серьез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 проведенного в рамках проекта исследования показал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календарем увеличивает познавательную потребность ребят, стремление к получению новых знаний, новой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лендарь является хорошим тренажером для развития умения выделить в тексте важное для решения данной конкретной задачи и отбросить второстепенное, незначим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я с календарем, ребята проявляют стремление к самореал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ируются навыки самоконтро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возможность соотнести результаты своей работы с результатами работы других, что способствует формированию адекватной само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лендарь не просто предлагает ответить на вопросы по истории, он зовет умножить знания и чувства, вспомнить и впитать гордость умом, мужеством, достоинством предков наш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с календарем помогает проявить высокую познавательную активность и понять, что умственный труд – это большая радость сама по себе, и новая «красивая» задача – награда за правильное решение предыдущей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ные по сложности задания, помогают приобщиться к истории и пятиклассникам и учащимся старших классов и родителям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вается мотивация учеников,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живает их интерес к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самовоспроизводящийся, т.к.  появляется стремление заняться проектной деятельностью, т.е. нестандартно подходить к решению творческих задач у других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49636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аботая над проектом, мы достигли поставленной цели, т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и оригинальное пособие по истории, способствующие развитию образного мышления, стремлению нестандартно подходить к решению творческих задач, развивающее интерес к изучению ис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вратили серьезную интеллектуальную деятельность в увлекательное зан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ли еще одну возможность раскрыться талантливым, эрудированным ребятам, тем, для кого знания, наука, творчество имеют первостепен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80360" y="5157720"/>
            <a:ext cx="1652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В Т О Р  П Р О Е К Т 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68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туальность тем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384720" cy="2739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280"/>
            <a:ext cx="4489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 - ве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ой эры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нет расползается по Земле. Компьютер становится неотъемлемой частью жизни современного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, учеба, свободное время, чаще всего связаны с компьютером. Количество информации растет с геометрической прогрессией, а читаем мы все меньше и меньше, книги отходят на второй, третий, четвертый и т.д. план. Меняется мышление, оно становится компьютерным – «да», «нет», 3 варианта ответа, 50/50, звонок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делать досуг школьников содержательным, как соединить познавательную деятельность и отды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лагаем собственное решение этой проблемы – творческий проект «Занимательный календарь школьника. Истор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3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Занимательный календарь школьника 2006-2007. ИСТОРИ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56000" y="1052640"/>
            <a:ext cx="4608720" cy="554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971640" y="1844280"/>
            <a:ext cx="5040360" cy="1800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71640" y="3141720"/>
            <a:ext cx="3960720" cy="720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149720"/>
            <a:ext cx="3673440" cy="71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26920" y="1628280"/>
            <a:ext cx="3456000" cy="1800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964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1280" y="3376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9640" y="366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9120" y="4673520"/>
            <a:ext cx="406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- Календарь на меся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Закон «О днях воинской сл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победных днях) России» прин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с. Думой 10 02 199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Дни воинской славы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. Познавательные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964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321440" cy="57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755640" y="1268280"/>
            <a:ext cx="5400720" cy="719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6920" y="2060280"/>
            <a:ext cx="4176720" cy="730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900000" y="2276640"/>
            <a:ext cx="5113440" cy="504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2997360"/>
            <a:ext cx="4103640" cy="71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3500280"/>
            <a:ext cx="6696000" cy="1800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365720"/>
            <a:ext cx="5545440" cy="1008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357720"/>
            <a:ext cx="4248360" cy="3585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70028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368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6560" y="2584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9640" y="2800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6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64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6560" y="4168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602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; 5 – вопросы доступные вс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; 6 – вопросы над которыми нужно подум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- вопросы для наболее эрудированных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080" y="4960800"/>
            <a:ext cx="450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- вопросы по истории Древне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- вопросы по истории Средних ве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- вопросы по истории Нового вре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- вопросы по истории Новейшего в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;2;5;7 – вопросы по истори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м числе по истории  Нориль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781360"/>
            <a:ext cx="5400720" cy="8636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00000" y="4436640"/>
            <a:ext cx="4319640" cy="144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9640" y="4384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79280" y="836640"/>
          <a:ext cx="4243320" cy="58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42433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643280" y="836640"/>
          <a:ext cx="4284720" cy="580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836640"/>
                    <a:ext cx="42847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959120" y="12600"/>
            <a:ext cx="41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 А Н И К У Л Ы 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5"/>
          </p:cNvPr>
          <p:cNvSpPr/>
          <p:nvPr/>
        </p:nvSpPr>
        <p:spPr>
          <a:xfrm>
            <a:off x="8604360" y="189000"/>
            <a:ext cx="539640" cy="144360"/>
          </a:xfrm>
          <a:custGeom>
            <a:avLst/>
            <a:gdLst>
              <a:gd name="textAreaLeft" fmla="*/ 0 w 539640"/>
              <a:gd name="textAreaRight" fmla="*/ 540000 w 539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Цель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386000"/>
            <a:ext cx="4202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оригинальное пособие по истории, способствующие развитию образного мышления, стремление нестандартно подходить к решению творческих задач, развивающее интерес к изучению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вратить серьезную интеллектуальную деятельность в увлекательное заня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ть еще одну возможность раскрыться талантливым, эрудированным ребятам, тем, для кого знания, наука, творчество имеют первостепенное зна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-1522" t="0" r="5113" b="0"/>
          <a:stretch/>
        </p:blipFill>
        <p:spPr>
          <a:xfrm>
            <a:off x="0" y="1484280"/>
            <a:ext cx="3697200" cy="410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rot="2658000">
            <a:off x="2916360" y="3428640"/>
            <a:ext cx="223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0920" y="6524640"/>
            <a:ext cx="392724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и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0920" y="981000"/>
            <a:ext cx="4994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зучить содержание журналов, книг, сборников содержащих интеллектуальные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истематизировать собранный и изучен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здать варианты страниц календа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брать соответствующий иллюстратив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овести опрос, анкетирование и интервьюирование респонд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оанализировать результаты ис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поставить полученный результат с поставленными целями. Сделать соответствующие вы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2006640"/>
            <a:ext cx="3600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 исследования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териалы журналов, книг, сборников содержащих интеллектуальные задания; возможности программ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е участ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го процесса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ому познаватель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обию по ис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исследования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, анализ и систематизация информации, опрос, анкетирование, интервью, проектный мет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11640" y="1557360"/>
            <a:ext cx="4754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58:19Z</dcterms:created>
  <dc:creator>GALA</dc:creator>
  <dc:description/>
  <dc:language>en-US</dc:language>
  <cp:lastModifiedBy>GVG</cp:lastModifiedBy>
  <dcterms:modified xsi:type="dcterms:W3CDTF">2007-01-30T18:05:15Z</dcterms:modified>
  <cp:revision>50</cp:revision>
  <dc:subject/>
  <dc:title>Творческий проект Занимательный календарь школьника ИСТОРИЯ</dc:title>
</cp:coreProperties>
</file>